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C5C-130C-435D-9B75-ACE3864A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5A1-7201-4912-9317-3C50699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573-50B4-49C8-9619-8EA7E834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89E-0950-4904-A5A3-B70A89CB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DFE-B692-4227-A7C2-6C8905B7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B9C-07CA-4464-8BD2-713CA822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D42-FB34-4EA4-BEEE-C9A8092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1A6-9D38-4866-9063-DAEEDAF0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844-3F2D-4583-A59B-9EBE7FC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6C8-3A93-4F7E-9304-6963550A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7EB-85DF-4FEE-981F-5239DB2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CFD-59B4-4D27-88EE-1042712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2E10-0F33-4D0C-B3F7-275FB3690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47" name="矩形 3"/>
          <p:cNvSpPr/>
          <p:nvPr/>
        </p:nvSpPr>
        <p:spPr>
          <a:xfrm>
            <a:off x="3035880" y="62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识字加油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19"/>
          <p:cNvSpPr/>
          <p:nvPr/>
        </p:nvSpPr>
        <p:spPr>
          <a:xfrm rot="5400000">
            <a:off x="1099440" y="293148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4"/>
          <p:cNvSpPr/>
          <p:nvPr/>
        </p:nvSpPr>
        <p:spPr>
          <a:xfrm>
            <a:off x="56052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5"/>
          <p:cNvSpPr/>
          <p:nvPr/>
        </p:nvSpPr>
        <p:spPr>
          <a:xfrm>
            <a:off x="34448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16"/>
          <p:cNvSpPr/>
          <p:nvPr/>
        </p:nvSpPr>
        <p:spPr>
          <a:xfrm>
            <a:off x="1581120" y="4818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17"/>
          <p:cNvSpPr/>
          <p:nvPr/>
        </p:nvSpPr>
        <p:spPr>
          <a:xfrm>
            <a:off x="4554360" y="491328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七角星 20"/>
          <p:cNvSpPr/>
          <p:nvPr/>
        </p:nvSpPr>
        <p:spPr>
          <a:xfrm>
            <a:off x="6367320" y="49132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七角星 21"/>
          <p:cNvSpPr/>
          <p:nvPr/>
        </p:nvSpPr>
        <p:spPr>
          <a:xfrm>
            <a:off x="73850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23"/>
          <p:cNvSpPr/>
          <p:nvPr/>
        </p:nvSpPr>
        <p:spPr>
          <a:xfrm rot="5400000">
            <a:off x="701280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24"/>
          <p:cNvSpPr/>
          <p:nvPr/>
        </p:nvSpPr>
        <p:spPr>
          <a:xfrm rot="5400000">
            <a:off x="962280" y="581868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25"/>
          <p:cNvSpPr/>
          <p:nvPr/>
        </p:nvSpPr>
        <p:spPr>
          <a:xfrm rot="5400000">
            <a:off x="406008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2"/>
          <p:cNvGrpSpPr/>
          <p:nvPr/>
        </p:nvGrpSpPr>
        <p:grpSpPr>
          <a:xfrm>
            <a:off x="560520" y="3983040"/>
            <a:ext cx="2417760" cy="664920"/>
            <a:chOff x="560520" y="3983040"/>
            <a:chExt cx="2417760" cy="664920"/>
          </a:xfrm>
        </p:grpSpPr>
        <p:sp>
          <p:nvSpPr>
            <p:cNvPr id="67" name="文本框 2"/>
            <p:cNvSpPr/>
            <p:nvPr/>
          </p:nvSpPr>
          <p:spPr>
            <a:xfrm>
              <a:off x="1760760" y="39830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"/>
            <p:cNvSpPr/>
            <p:nvPr/>
          </p:nvSpPr>
          <p:spPr>
            <a:xfrm>
              <a:off x="560520" y="400536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á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"/>
          <p:cNvGrpSpPr/>
          <p:nvPr/>
        </p:nvGrpSpPr>
        <p:grpSpPr>
          <a:xfrm>
            <a:off x="3575160" y="4173480"/>
            <a:ext cx="2356920" cy="642600"/>
            <a:chOff x="3575160" y="4173480"/>
            <a:chExt cx="2356920" cy="642600"/>
          </a:xfrm>
        </p:grpSpPr>
        <p:sp>
          <p:nvSpPr>
            <p:cNvPr id="70" name="文本框 10"/>
            <p:cNvSpPr/>
            <p:nvPr/>
          </p:nvSpPr>
          <p:spPr>
            <a:xfrm>
              <a:off x="35751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ā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11"/>
            <p:cNvSpPr/>
            <p:nvPr/>
          </p:nvSpPr>
          <p:spPr>
            <a:xfrm>
              <a:off x="47145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uā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6124680" y="4173480"/>
            <a:ext cx="3070080" cy="642600"/>
            <a:chOff x="6124680" y="4173480"/>
            <a:chExt cx="3070080" cy="642600"/>
          </a:xfrm>
        </p:grpSpPr>
        <p:sp>
          <p:nvSpPr>
            <p:cNvPr id="73" name="文本框 12"/>
            <p:cNvSpPr/>
            <p:nvPr/>
          </p:nvSpPr>
          <p:spPr>
            <a:xfrm>
              <a:off x="612468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hè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3"/>
            <p:cNvSpPr/>
            <p:nvPr/>
          </p:nvSpPr>
          <p:spPr>
            <a:xfrm>
              <a:off x="747864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ǎ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云形标注 2"/>
          <p:cNvSpPr/>
          <p:nvPr/>
        </p:nvSpPr>
        <p:spPr>
          <a:xfrm>
            <a:off x="498600" y="295200"/>
            <a:ext cx="776448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1258920" y="67788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看看都会写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8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9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80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85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91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92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男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97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8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3"/>
          <p:cNvGrpSpPr/>
          <p:nvPr/>
        </p:nvGrpSpPr>
        <p:grpSpPr>
          <a:xfrm>
            <a:off x="957240" y="3713040"/>
            <a:ext cx="7128360" cy="1635120"/>
            <a:chOff x="957240" y="3713040"/>
            <a:chExt cx="7128360" cy="1635120"/>
          </a:xfrm>
        </p:grpSpPr>
        <p:grpSp>
          <p:nvGrpSpPr>
            <p:cNvPr id="103" name="Group 4"/>
            <p:cNvGrpSpPr/>
            <p:nvPr/>
          </p:nvGrpSpPr>
          <p:grpSpPr>
            <a:xfrm>
              <a:off x="2674440" y="3719520"/>
              <a:ext cx="1981800" cy="1628640"/>
              <a:chOff x="2674440" y="3719520"/>
              <a:chExt cx="1981800" cy="1628640"/>
            </a:xfrm>
          </p:grpSpPr>
          <p:grpSp>
            <p:nvGrpSpPr>
              <p:cNvPr id="104" name="Group 5"/>
              <p:cNvGrpSpPr/>
              <p:nvPr/>
            </p:nvGrpSpPr>
            <p:grpSpPr>
              <a:xfrm>
                <a:off x="2674440" y="3822120"/>
                <a:ext cx="1753200" cy="1526040"/>
                <a:chOff x="2674440" y="3822120"/>
                <a:chExt cx="1753200" cy="1526040"/>
              </a:xfrm>
            </p:grpSpPr>
            <p:sp>
              <p:nvSpPr>
                <p:cNvPr id="105" name="Rectangle 6"/>
                <p:cNvSpPr/>
                <p:nvPr/>
              </p:nvSpPr>
              <p:spPr>
                <a:xfrm>
                  <a:off x="2674440" y="3860640"/>
                  <a:ext cx="1738800" cy="148752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7"/>
                <p:cNvSpPr/>
                <p:nvPr/>
              </p:nvSpPr>
              <p:spPr>
                <a:xfrm>
                  <a:off x="3557520" y="3822120"/>
                  <a:ext cx="0" cy="1487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8"/>
                <p:cNvSpPr/>
                <p:nvPr/>
              </p:nvSpPr>
              <p:spPr>
                <a:xfrm>
                  <a:off x="2687760" y="4566240"/>
                  <a:ext cx="17398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9"/>
              <p:cNvSpPr/>
              <p:nvPr/>
            </p:nvSpPr>
            <p:spPr>
              <a:xfrm>
                <a:off x="2915280" y="371952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0"/>
            <p:cNvGrpSpPr/>
            <p:nvPr/>
          </p:nvGrpSpPr>
          <p:grpSpPr>
            <a:xfrm>
              <a:off x="957240" y="3713040"/>
              <a:ext cx="1910520" cy="1621080"/>
              <a:chOff x="957240" y="3713040"/>
              <a:chExt cx="1910520" cy="162108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957240" y="3810600"/>
                <a:ext cx="1739160" cy="1523520"/>
                <a:chOff x="957240" y="3810600"/>
                <a:chExt cx="1739160" cy="1523520"/>
              </a:xfrm>
            </p:grpSpPr>
            <p:sp>
              <p:nvSpPr>
                <p:cNvPr id="111" name="Rectangle 12"/>
                <p:cNvSpPr/>
                <p:nvPr/>
              </p:nvSpPr>
              <p:spPr>
                <a:xfrm>
                  <a:off x="957240" y="384912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3"/>
                <p:cNvSpPr/>
                <p:nvPr/>
              </p:nvSpPr>
              <p:spPr>
                <a:xfrm>
                  <a:off x="182664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4"/>
                <p:cNvSpPr/>
                <p:nvPr/>
              </p:nvSpPr>
              <p:spPr>
                <a:xfrm>
                  <a:off x="957240" y="45532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Text Box 15"/>
              <p:cNvSpPr/>
              <p:nvPr/>
            </p:nvSpPr>
            <p:spPr>
              <a:xfrm>
                <a:off x="1127880" y="371304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正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6"/>
            <p:cNvGrpSpPr/>
            <p:nvPr/>
          </p:nvGrpSpPr>
          <p:grpSpPr>
            <a:xfrm>
              <a:off x="4386600" y="3713040"/>
              <a:ext cx="1986840" cy="1621080"/>
              <a:chOff x="4386600" y="3713040"/>
              <a:chExt cx="1986840" cy="162108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4386600" y="3810600"/>
                <a:ext cx="1773000" cy="1523520"/>
                <a:chOff x="4386600" y="3810600"/>
                <a:chExt cx="1773000" cy="15235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4386600" y="384912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28912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4418280" y="455328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21"/>
              <p:cNvSpPr/>
              <p:nvPr/>
            </p:nvSpPr>
            <p:spPr>
              <a:xfrm>
                <a:off x="4632840" y="371304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大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2"/>
            <p:cNvGrpSpPr/>
            <p:nvPr/>
          </p:nvGrpSpPr>
          <p:grpSpPr>
            <a:xfrm>
              <a:off x="6100560" y="3716280"/>
              <a:ext cx="1985040" cy="1624320"/>
              <a:chOff x="6100560" y="3716280"/>
              <a:chExt cx="1985040" cy="1624320"/>
            </a:xfrm>
          </p:grpSpPr>
          <p:grpSp>
            <p:nvGrpSpPr>
              <p:cNvPr id="122" name="Group 23"/>
              <p:cNvGrpSpPr/>
              <p:nvPr/>
            </p:nvGrpSpPr>
            <p:grpSpPr>
              <a:xfrm>
                <a:off x="6100560" y="3809160"/>
                <a:ext cx="1774080" cy="1531440"/>
                <a:chOff x="6100560" y="3809160"/>
                <a:chExt cx="1774080" cy="1531440"/>
              </a:xfrm>
            </p:grpSpPr>
            <p:sp>
              <p:nvSpPr>
                <p:cNvPr id="123" name="Rectangle 24"/>
                <p:cNvSpPr/>
                <p:nvPr/>
              </p:nvSpPr>
              <p:spPr>
                <a:xfrm>
                  <a:off x="6100560" y="385560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5"/>
                <p:cNvSpPr/>
                <p:nvPr/>
              </p:nvSpPr>
              <p:spPr>
                <a:xfrm>
                  <a:off x="7005600" y="38091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6"/>
                <p:cNvSpPr/>
                <p:nvPr/>
              </p:nvSpPr>
              <p:spPr>
                <a:xfrm>
                  <a:off x="6136200" y="455184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Text Box 27"/>
              <p:cNvSpPr/>
              <p:nvPr/>
            </p:nvSpPr>
            <p:spPr>
              <a:xfrm>
                <a:off x="6343920" y="371628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517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1987560" y="619200"/>
            <a:ext cx="48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一读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八角星 1"/>
          <p:cNvSpPr/>
          <p:nvPr/>
        </p:nvSpPr>
        <p:spPr>
          <a:xfrm>
            <a:off x="539640" y="2108160"/>
            <a:ext cx="1800360" cy="1392120"/>
          </a:xfrm>
          <a:custGeom>
            <a:avLst/>
            <a:gdLst>
              <a:gd name="textAreaLeft" fmla="*/ 422640 w 1800360"/>
              <a:gd name="textAreaRight" fmla="*/ 1377720 w 1800360"/>
              <a:gd name="textAreaTop" fmla="*/ 326880 h 1392120"/>
              <a:gd name="textAreaBottom" fmla="*/ 10652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八角星 5"/>
          <p:cNvSpPr/>
          <p:nvPr/>
        </p:nvSpPr>
        <p:spPr>
          <a:xfrm>
            <a:off x="2824200" y="2079720"/>
            <a:ext cx="1747800" cy="1420560"/>
          </a:xfrm>
          <a:custGeom>
            <a:avLst/>
            <a:gdLst>
              <a:gd name="textAreaLeft" fmla="*/ 410400 w 1747800"/>
              <a:gd name="textAreaRight" fmla="*/ 1337400 w 1747800"/>
              <a:gd name="textAreaTop" fmla="*/ 333360 h 1420560"/>
              <a:gd name="textAreaBottom" fmla="*/ 1087200 h 14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八角星 6"/>
          <p:cNvSpPr/>
          <p:nvPr/>
        </p:nvSpPr>
        <p:spPr>
          <a:xfrm>
            <a:off x="4932360" y="2174760"/>
            <a:ext cx="1773360" cy="1295640"/>
          </a:xfrm>
          <a:custGeom>
            <a:avLst/>
            <a:gdLst>
              <a:gd name="textAreaLeft" fmla="*/ 416520 w 1773360"/>
              <a:gd name="textAreaRight" fmla="*/ 1356840 w 1773360"/>
              <a:gd name="textAreaTop" fmla="*/ 304200 h 1295640"/>
              <a:gd name="textAreaBottom" fmla="*/ 9914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八角星 7"/>
          <p:cNvSpPr/>
          <p:nvPr/>
        </p:nvSpPr>
        <p:spPr>
          <a:xfrm>
            <a:off x="7066080" y="2108160"/>
            <a:ext cx="1753920" cy="1362240"/>
          </a:xfrm>
          <a:custGeom>
            <a:avLst/>
            <a:gdLst>
              <a:gd name="textAreaLeft" fmla="*/ 411840 w 1753920"/>
              <a:gd name="textAreaRight" fmla="*/ 1342080 w 1753920"/>
              <a:gd name="textAreaTop" fmla="*/ 319680 h 1362240"/>
              <a:gd name="textAreaBottom" fmla="*/ 1042560 h 13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826920" y="38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地   树叶  青草  莲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飞鸟   小鱼  青蛙  雪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179280" y="198360"/>
            <a:ext cx="1755720" cy="1433520"/>
          </a:xfrm>
          <a:prstGeom prst="rect">
            <a:avLst/>
          </a:prstGeom>
          <a:ln w="0">
            <a:noFill/>
          </a:ln>
        </p:spPr>
      </p:pic>
      <p:sp>
        <p:nvSpPr>
          <p:cNvPr id="135" name="矩形 615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574560" y="765000"/>
            <a:ext cx="856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读上面的词语，选择恰当词语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）到了，（   ）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从南方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，池塘里的（   ）开了，（  ）在水中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现在是（ ），（ ）都从树上落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下雪了，我和小伙伴们一起堆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-181080" y="3492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3"/>
          <a:stretch/>
        </p:blipFill>
        <p:spPr>
          <a:xfrm>
            <a:off x="-190440" y="0"/>
            <a:ext cx="26654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ugc.qpic.cn/baikepic2/0/ori-20160729132213-1252228468.jpg/800"/>
          <p:cNvPicPr/>
          <p:nvPr/>
        </p:nvPicPr>
        <p:blipFill>
          <a:blip r:embed="rId1"/>
          <a:stretch/>
        </p:blipFill>
        <p:spPr>
          <a:xfrm>
            <a:off x="0" y="334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云形标注 2"/>
          <p:cNvSpPr/>
          <p:nvPr/>
        </p:nvSpPr>
        <p:spPr>
          <a:xfrm>
            <a:off x="900000" y="3860640"/>
            <a:ext cx="7993080" cy="16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1763640" y="4005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两句谚语告诉我们：要珍惜时间，好好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5092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家和爸爸妈妈一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松鼠找花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7693200" cy="4103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243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244"/>
          <p:cNvSpPr/>
          <p:nvPr/>
        </p:nvSpPr>
        <p:spPr>
          <a:xfrm>
            <a:off x="1692360" y="141300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201600" y="-3160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"/>
          <p:cNvSpPr/>
          <p:nvPr/>
        </p:nvSpPr>
        <p:spPr>
          <a:xfrm>
            <a:off x="2568600" y="907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2"/>
          <a:stretch/>
        </p:blipFill>
        <p:spPr>
          <a:xfrm>
            <a:off x="324000" y="-2556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"/>
          <p:cNvSpPr/>
          <p:nvPr/>
        </p:nvSpPr>
        <p:spPr>
          <a:xfrm>
            <a:off x="2592360" y="1557360"/>
            <a:ext cx="675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会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弯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红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小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闪闪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蓝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暖暖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气凉了，树叶（ 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（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     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1-26T12:30:57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